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2E8-AD70-4109-8E52-33AAF714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02A-C24A-4B4A-BE0B-A157FC5A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CB7-4990-4176-BDAE-A687163E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899-24AF-46FA-8519-70E3818B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DEF-AC18-477C-A1F1-6D21E92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F6D1-5974-452E-BEEF-8A839E4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20CC-0A39-4184-9840-C22D1D15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6CCA-4ABB-41F1-89A1-77B0F43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6A7C-D49C-4086-9C9A-27FA89DB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084-0A1F-4E71-8A51-74FE759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4A0C-7594-4E0F-91DD-E90D7E3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EF9-8619-4858-ADC6-7FE2A49D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DDE1-45D3-4A05-93D7-89E140E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124-1B59-488A-950C-8F29DCD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AF14-E5F3-4648-89F5-FCE02F1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AE9C-FA04-466D-A0B2-E3614614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E2B-ED33-4DDD-8E20-6516854E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8AA-A0A2-4AEF-BF21-95D1522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2BD-7663-42AD-A208-9D0A5B4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E29-52AF-4229-A702-06485C3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89E-FC78-4344-AE1C-64D38CB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A6C-D008-44A7-84AC-0772936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1AE-99EB-4841-8444-8B548A2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50B-7E6C-48BD-A8F8-9BFDD99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F64-6FC3-41C1-B457-037CF1CB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4783-16B1-456F-9712-B90EA5C123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apolis  Confer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ference was called to discuss how to fix the government to avoid another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were in deb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es to high- Shay’s Rebe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merce a m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trade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62040" y="976320"/>
            <a:ext cx="78199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871560" y="1004760"/>
            <a:ext cx="74008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004760" y="676440"/>
            <a:ext cx="713448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47560" y="866880"/>
            <a:ext cx="80488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47840" y="318960"/>
            <a:ext cx="82483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0480" y="343080"/>
            <a:ext cx="7763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stitution for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ederation form of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would remain separate and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ded together to form a cohesive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ameral legislature- one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tate sends delegates, but gets only one vote per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obligated to send funds to pay government officials and the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obligated to send troops to man and maintain a central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state votes to pass any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nimous vote by the states was necessary to amend th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ccomplishments under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the Post Office (only government agency that is self-suppor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the post r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the Northwest Territory Act of 1787 that allowed new states into the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a system of weights and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MARTPenAnnotation11"/>
          <p:cNvSpPr/>
          <p:nvPr/>
        </p:nvSpPr>
        <p:spPr>
          <a:xfrm>
            <a:off x="514440" y="3208320"/>
            <a:ext cx="7500960" cy="16351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4725" h="1030">
                <a:moveTo>
                  <a:pt x="4622" y="225"/>
                </a:moveTo>
                <a:lnTo>
                  <a:pt x="4606" y="216"/>
                </a:lnTo>
                <a:lnTo>
                  <a:pt x="4591" y="207"/>
                </a:lnTo>
                <a:lnTo>
                  <a:pt x="4529" y="178"/>
                </a:lnTo>
                <a:lnTo>
                  <a:pt x="4442" y="148"/>
                </a:lnTo>
                <a:lnTo>
                  <a:pt x="4336" y="119"/>
                </a:lnTo>
                <a:lnTo>
                  <a:pt x="4198" y="89"/>
                </a:lnTo>
                <a:lnTo>
                  <a:pt x="4068" y="74"/>
                </a:lnTo>
                <a:lnTo>
                  <a:pt x="3921" y="59"/>
                </a:lnTo>
                <a:lnTo>
                  <a:pt x="3745" y="50"/>
                </a:lnTo>
                <a:lnTo>
                  <a:pt x="3578" y="41"/>
                </a:lnTo>
                <a:lnTo>
                  <a:pt x="3444" y="34"/>
                </a:lnTo>
                <a:lnTo>
                  <a:pt x="3177" y="9"/>
                </a:lnTo>
                <a:lnTo>
                  <a:pt x="3030" y="0"/>
                </a:lnTo>
                <a:lnTo>
                  <a:pt x="2745" y="0"/>
                </a:lnTo>
                <a:lnTo>
                  <a:pt x="2590" y="8"/>
                </a:lnTo>
                <a:lnTo>
                  <a:pt x="1998" y="17"/>
                </a:lnTo>
                <a:lnTo>
                  <a:pt x="1860" y="21"/>
                </a:lnTo>
                <a:lnTo>
                  <a:pt x="1722" y="31"/>
                </a:lnTo>
                <a:lnTo>
                  <a:pt x="1513" y="57"/>
                </a:lnTo>
                <a:lnTo>
                  <a:pt x="1367" y="70"/>
                </a:lnTo>
                <a:lnTo>
                  <a:pt x="1102" y="84"/>
                </a:lnTo>
                <a:lnTo>
                  <a:pt x="968" y="85"/>
                </a:lnTo>
                <a:lnTo>
                  <a:pt x="750" y="85"/>
                </a:lnTo>
                <a:lnTo>
                  <a:pt x="603" y="93"/>
                </a:lnTo>
                <a:lnTo>
                  <a:pt x="465" y="90"/>
                </a:lnTo>
                <a:lnTo>
                  <a:pt x="408" y="94"/>
                </a:lnTo>
                <a:lnTo>
                  <a:pt x="279" y="122"/>
                </a:lnTo>
                <a:lnTo>
                  <a:pt x="181" y="153"/>
                </a:lnTo>
                <a:lnTo>
                  <a:pt x="155" y="165"/>
                </a:lnTo>
                <a:lnTo>
                  <a:pt x="124" y="183"/>
                </a:lnTo>
                <a:lnTo>
                  <a:pt x="88" y="214"/>
                </a:lnTo>
                <a:lnTo>
                  <a:pt x="69" y="242"/>
                </a:lnTo>
                <a:lnTo>
                  <a:pt x="51" y="273"/>
                </a:lnTo>
                <a:lnTo>
                  <a:pt x="37" y="300"/>
                </a:lnTo>
                <a:lnTo>
                  <a:pt x="22" y="331"/>
                </a:lnTo>
                <a:lnTo>
                  <a:pt x="16" y="350"/>
                </a:lnTo>
                <a:lnTo>
                  <a:pt x="11" y="378"/>
                </a:lnTo>
                <a:lnTo>
                  <a:pt x="7" y="406"/>
                </a:lnTo>
                <a:lnTo>
                  <a:pt x="2" y="437"/>
                </a:lnTo>
                <a:lnTo>
                  <a:pt x="1" y="463"/>
                </a:lnTo>
                <a:lnTo>
                  <a:pt x="0" y="515"/>
                </a:lnTo>
                <a:lnTo>
                  <a:pt x="1" y="550"/>
                </a:lnTo>
                <a:lnTo>
                  <a:pt x="4" y="603"/>
                </a:lnTo>
                <a:lnTo>
                  <a:pt x="4" y="635"/>
                </a:lnTo>
                <a:lnTo>
                  <a:pt x="7" y="665"/>
                </a:lnTo>
                <a:lnTo>
                  <a:pt x="11" y="719"/>
                </a:lnTo>
                <a:lnTo>
                  <a:pt x="15" y="749"/>
                </a:lnTo>
                <a:lnTo>
                  <a:pt x="19" y="779"/>
                </a:lnTo>
                <a:lnTo>
                  <a:pt x="22" y="805"/>
                </a:lnTo>
                <a:lnTo>
                  <a:pt x="26" y="825"/>
                </a:lnTo>
                <a:lnTo>
                  <a:pt x="42" y="854"/>
                </a:lnTo>
                <a:lnTo>
                  <a:pt x="60" y="886"/>
                </a:lnTo>
                <a:lnTo>
                  <a:pt x="86" y="914"/>
                </a:lnTo>
                <a:lnTo>
                  <a:pt x="113" y="936"/>
                </a:lnTo>
                <a:lnTo>
                  <a:pt x="155" y="964"/>
                </a:lnTo>
                <a:lnTo>
                  <a:pt x="188" y="981"/>
                </a:lnTo>
                <a:lnTo>
                  <a:pt x="220" y="991"/>
                </a:lnTo>
                <a:lnTo>
                  <a:pt x="241" y="995"/>
                </a:lnTo>
                <a:lnTo>
                  <a:pt x="248" y="997"/>
                </a:lnTo>
                <a:lnTo>
                  <a:pt x="439" y="1018"/>
                </a:lnTo>
                <a:lnTo>
                  <a:pt x="552" y="1029"/>
                </a:lnTo>
                <a:lnTo>
                  <a:pt x="687" y="1013"/>
                </a:lnTo>
                <a:lnTo>
                  <a:pt x="849" y="991"/>
                </a:lnTo>
                <a:lnTo>
                  <a:pt x="994" y="975"/>
                </a:lnTo>
                <a:lnTo>
                  <a:pt x="1124" y="962"/>
                </a:lnTo>
                <a:lnTo>
                  <a:pt x="1275" y="952"/>
                </a:lnTo>
                <a:lnTo>
                  <a:pt x="1419" y="943"/>
                </a:lnTo>
                <a:lnTo>
                  <a:pt x="1561" y="934"/>
                </a:lnTo>
                <a:lnTo>
                  <a:pt x="1762" y="921"/>
                </a:lnTo>
                <a:lnTo>
                  <a:pt x="1907" y="914"/>
                </a:lnTo>
                <a:lnTo>
                  <a:pt x="2048" y="909"/>
                </a:lnTo>
                <a:lnTo>
                  <a:pt x="2194" y="904"/>
                </a:lnTo>
                <a:lnTo>
                  <a:pt x="2336" y="896"/>
                </a:lnTo>
                <a:lnTo>
                  <a:pt x="2471" y="898"/>
                </a:lnTo>
                <a:lnTo>
                  <a:pt x="2610" y="902"/>
                </a:lnTo>
                <a:lnTo>
                  <a:pt x="2751" y="901"/>
                </a:lnTo>
                <a:lnTo>
                  <a:pt x="2895" y="893"/>
                </a:lnTo>
                <a:lnTo>
                  <a:pt x="3036" y="886"/>
                </a:lnTo>
                <a:lnTo>
                  <a:pt x="3222" y="879"/>
                </a:lnTo>
                <a:lnTo>
                  <a:pt x="3351" y="871"/>
                </a:lnTo>
                <a:lnTo>
                  <a:pt x="3498" y="862"/>
                </a:lnTo>
                <a:lnTo>
                  <a:pt x="3685" y="846"/>
                </a:lnTo>
                <a:lnTo>
                  <a:pt x="3816" y="831"/>
                </a:lnTo>
                <a:lnTo>
                  <a:pt x="3953" y="805"/>
                </a:lnTo>
                <a:lnTo>
                  <a:pt x="4065" y="778"/>
                </a:lnTo>
                <a:lnTo>
                  <a:pt x="4159" y="751"/>
                </a:lnTo>
                <a:lnTo>
                  <a:pt x="4332" y="696"/>
                </a:lnTo>
                <a:lnTo>
                  <a:pt x="4433" y="665"/>
                </a:lnTo>
                <a:lnTo>
                  <a:pt x="4521" y="633"/>
                </a:lnTo>
                <a:lnTo>
                  <a:pt x="4581" y="604"/>
                </a:lnTo>
                <a:lnTo>
                  <a:pt x="4643" y="574"/>
                </a:lnTo>
                <a:lnTo>
                  <a:pt x="4681" y="542"/>
                </a:lnTo>
                <a:lnTo>
                  <a:pt x="4701" y="521"/>
                </a:lnTo>
                <a:lnTo>
                  <a:pt x="4707" y="512"/>
                </a:lnTo>
                <a:lnTo>
                  <a:pt x="4717" y="490"/>
                </a:lnTo>
                <a:lnTo>
                  <a:pt x="4720" y="468"/>
                </a:lnTo>
                <a:lnTo>
                  <a:pt x="4723" y="444"/>
                </a:lnTo>
                <a:lnTo>
                  <a:pt x="4724" y="416"/>
                </a:lnTo>
                <a:lnTo>
                  <a:pt x="4721" y="386"/>
                </a:lnTo>
                <a:lnTo>
                  <a:pt x="4714" y="354"/>
                </a:lnTo>
                <a:lnTo>
                  <a:pt x="4703" y="326"/>
                </a:lnTo>
                <a:lnTo>
                  <a:pt x="4685" y="298"/>
                </a:lnTo>
                <a:lnTo>
                  <a:pt x="4662" y="270"/>
                </a:lnTo>
                <a:lnTo>
                  <a:pt x="4634" y="242"/>
                </a:lnTo>
                <a:lnTo>
                  <a:pt x="4614" y="221"/>
                </a:lnTo>
                <a:lnTo>
                  <a:pt x="4549" y="153"/>
                </a:lnTo>
                <a:lnTo>
                  <a:pt x="4527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not fairly represented in the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ntral authority to negotiate with Foreig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authority to make states comply with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ower to collect taxes or impel troops into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MARTPenAnnotation4"/>
          <p:cNvSpPr/>
          <p:nvPr/>
        </p:nvSpPr>
        <p:spPr>
          <a:xfrm>
            <a:off x="2357280" y="5257800"/>
            <a:ext cx="2652840" cy="15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671" h="95">
                <a:moveTo>
                  <a:pt x="1670" y="45"/>
                </a:moveTo>
                <a:lnTo>
                  <a:pt x="1606" y="45"/>
                </a:lnTo>
                <a:lnTo>
                  <a:pt x="1568" y="47"/>
                </a:lnTo>
                <a:lnTo>
                  <a:pt x="1525" y="51"/>
                </a:lnTo>
                <a:lnTo>
                  <a:pt x="1452" y="56"/>
                </a:lnTo>
                <a:lnTo>
                  <a:pt x="1428" y="57"/>
                </a:lnTo>
                <a:lnTo>
                  <a:pt x="1305" y="58"/>
                </a:lnTo>
                <a:lnTo>
                  <a:pt x="1273" y="58"/>
                </a:lnTo>
                <a:lnTo>
                  <a:pt x="1225" y="60"/>
                </a:lnTo>
                <a:lnTo>
                  <a:pt x="1178" y="62"/>
                </a:lnTo>
                <a:lnTo>
                  <a:pt x="1015" y="67"/>
                </a:lnTo>
                <a:lnTo>
                  <a:pt x="966" y="69"/>
                </a:lnTo>
                <a:lnTo>
                  <a:pt x="949" y="70"/>
                </a:lnTo>
                <a:lnTo>
                  <a:pt x="813" y="82"/>
                </a:lnTo>
                <a:lnTo>
                  <a:pt x="786" y="85"/>
                </a:lnTo>
                <a:lnTo>
                  <a:pt x="766" y="87"/>
                </a:lnTo>
                <a:lnTo>
                  <a:pt x="720" y="90"/>
                </a:lnTo>
                <a:lnTo>
                  <a:pt x="698" y="92"/>
                </a:lnTo>
                <a:lnTo>
                  <a:pt x="649" y="94"/>
                </a:lnTo>
                <a:lnTo>
                  <a:pt x="601" y="93"/>
                </a:lnTo>
                <a:lnTo>
                  <a:pt x="573" y="90"/>
                </a:lnTo>
                <a:lnTo>
                  <a:pt x="525" y="84"/>
                </a:lnTo>
                <a:lnTo>
                  <a:pt x="497" y="81"/>
                </a:lnTo>
                <a:lnTo>
                  <a:pt x="482" y="79"/>
                </a:lnTo>
                <a:lnTo>
                  <a:pt x="469" y="76"/>
                </a:lnTo>
                <a:lnTo>
                  <a:pt x="451" y="73"/>
                </a:lnTo>
                <a:lnTo>
                  <a:pt x="420" y="70"/>
                </a:lnTo>
                <a:lnTo>
                  <a:pt x="379" y="68"/>
                </a:lnTo>
                <a:lnTo>
                  <a:pt x="362" y="65"/>
                </a:lnTo>
                <a:lnTo>
                  <a:pt x="292" y="58"/>
                </a:lnTo>
                <a:lnTo>
                  <a:pt x="258" y="56"/>
                </a:lnTo>
                <a:lnTo>
                  <a:pt x="213" y="54"/>
                </a:lnTo>
                <a:lnTo>
                  <a:pt x="185" y="52"/>
                </a:lnTo>
                <a:lnTo>
                  <a:pt x="167" y="49"/>
                </a:lnTo>
                <a:lnTo>
                  <a:pt x="153" y="47"/>
                </a:lnTo>
                <a:lnTo>
                  <a:pt x="141" y="46"/>
                </a:lnTo>
                <a:lnTo>
                  <a:pt x="132" y="44"/>
                </a:lnTo>
                <a:lnTo>
                  <a:pt x="122" y="42"/>
                </a:lnTo>
                <a:lnTo>
                  <a:pt x="113" y="39"/>
                </a:lnTo>
                <a:lnTo>
                  <a:pt x="104" y="37"/>
                </a:lnTo>
                <a:lnTo>
                  <a:pt x="96" y="34"/>
                </a:lnTo>
                <a:lnTo>
                  <a:pt x="90" y="31"/>
                </a:lnTo>
                <a:lnTo>
                  <a:pt x="84" y="28"/>
                </a:lnTo>
                <a:lnTo>
                  <a:pt x="77" y="25"/>
                </a:lnTo>
                <a:lnTo>
                  <a:pt x="69" y="22"/>
                </a:lnTo>
                <a:lnTo>
                  <a:pt x="53" y="16"/>
                </a:lnTo>
                <a:lnTo>
                  <a:pt x="38" y="10"/>
                </a:lnTo>
                <a:lnTo>
                  <a:pt x="32" y="8"/>
                </a:lnTo>
                <a:lnTo>
                  <a:pt x="18" y="6"/>
                </a:lnTo>
                <a:lnTo>
                  <a:pt x="9" y="4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MARTPenAnnotation5"/>
          <p:cNvSpPr/>
          <p:nvPr/>
        </p:nvSpPr>
        <p:spPr>
          <a:xfrm>
            <a:off x="6237360" y="5451480"/>
            <a:ext cx="1987560" cy="44280"/>
          </a:xfrm>
          <a:custGeom>
            <a:avLst/>
            <a:gdLst>
              <a:gd name="textAreaLeft" fmla="*/ 0 w 1987560"/>
              <a:gd name="textAreaRight" fmla="*/ 1987920 w 1987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2" h="28">
                <a:moveTo>
                  <a:pt x="0" y="9"/>
                </a:moveTo>
                <a:lnTo>
                  <a:pt x="68" y="9"/>
                </a:lnTo>
                <a:lnTo>
                  <a:pt x="73" y="9"/>
                </a:lnTo>
                <a:lnTo>
                  <a:pt x="79" y="10"/>
                </a:lnTo>
                <a:lnTo>
                  <a:pt x="85" y="11"/>
                </a:lnTo>
                <a:lnTo>
                  <a:pt x="106" y="13"/>
                </a:lnTo>
                <a:lnTo>
                  <a:pt x="119" y="15"/>
                </a:lnTo>
                <a:lnTo>
                  <a:pt x="132" y="16"/>
                </a:lnTo>
                <a:lnTo>
                  <a:pt x="146" y="16"/>
                </a:lnTo>
                <a:lnTo>
                  <a:pt x="184" y="17"/>
                </a:lnTo>
                <a:lnTo>
                  <a:pt x="324" y="17"/>
                </a:lnTo>
                <a:lnTo>
                  <a:pt x="340" y="17"/>
                </a:lnTo>
                <a:lnTo>
                  <a:pt x="353" y="16"/>
                </a:lnTo>
                <a:lnTo>
                  <a:pt x="437" y="9"/>
                </a:lnTo>
                <a:lnTo>
                  <a:pt x="477" y="6"/>
                </a:lnTo>
                <a:lnTo>
                  <a:pt x="492" y="5"/>
                </a:lnTo>
                <a:lnTo>
                  <a:pt x="528" y="5"/>
                </a:lnTo>
                <a:lnTo>
                  <a:pt x="549" y="4"/>
                </a:lnTo>
                <a:lnTo>
                  <a:pt x="568" y="4"/>
                </a:lnTo>
                <a:lnTo>
                  <a:pt x="630" y="0"/>
                </a:lnTo>
                <a:lnTo>
                  <a:pt x="661" y="0"/>
                </a:lnTo>
                <a:lnTo>
                  <a:pt x="717" y="0"/>
                </a:lnTo>
                <a:lnTo>
                  <a:pt x="734" y="1"/>
                </a:lnTo>
                <a:lnTo>
                  <a:pt x="751" y="2"/>
                </a:lnTo>
                <a:lnTo>
                  <a:pt x="767" y="4"/>
                </a:lnTo>
                <a:lnTo>
                  <a:pt x="781" y="6"/>
                </a:lnTo>
                <a:lnTo>
                  <a:pt x="794" y="7"/>
                </a:lnTo>
                <a:lnTo>
                  <a:pt x="805" y="7"/>
                </a:lnTo>
                <a:lnTo>
                  <a:pt x="831" y="8"/>
                </a:lnTo>
                <a:lnTo>
                  <a:pt x="856" y="8"/>
                </a:lnTo>
                <a:lnTo>
                  <a:pt x="865" y="7"/>
                </a:lnTo>
                <a:lnTo>
                  <a:pt x="874" y="6"/>
                </a:lnTo>
                <a:lnTo>
                  <a:pt x="904" y="4"/>
                </a:lnTo>
                <a:lnTo>
                  <a:pt x="924" y="2"/>
                </a:lnTo>
                <a:lnTo>
                  <a:pt x="952" y="2"/>
                </a:lnTo>
                <a:lnTo>
                  <a:pt x="963" y="3"/>
                </a:lnTo>
                <a:lnTo>
                  <a:pt x="973" y="4"/>
                </a:lnTo>
                <a:lnTo>
                  <a:pt x="983" y="5"/>
                </a:lnTo>
                <a:lnTo>
                  <a:pt x="993" y="6"/>
                </a:lnTo>
                <a:lnTo>
                  <a:pt x="1002" y="7"/>
                </a:lnTo>
                <a:lnTo>
                  <a:pt x="1029" y="12"/>
                </a:lnTo>
                <a:lnTo>
                  <a:pt x="1088" y="23"/>
                </a:lnTo>
                <a:lnTo>
                  <a:pt x="1096" y="24"/>
                </a:lnTo>
                <a:lnTo>
                  <a:pt x="1105" y="25"/>
                </a:lnTo>
                <a:lnTo>
                  <a:pt x="1113" y="25"/>
                </a:lnTo>
                <a:lnTo>
                  <a:pt x="1136" y="26"/>
                </a:lnTo>
                <a:lnTo>
                  <a:pt x="1251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SMARTPenAnnotation6"/>
          <p:cNvSpPr/>
          <p:nvPr/>
        </p:nvSpPr>
        <p:spPr>
          <a:xfrm>
            <a:off x="393840" y="2708280"/>
            <a:ext cx="3782880" cy="565200"/>
          </a:xfrm>
          <a:custGeom>
            <a:avLst/>
            <a:gdLst>
              <a:gd name="textAreaLeft" fmla="*/ 0 w 3782880"/>
              <a:gd name="textAreaRight" fmla="*/ 3783240 w 378288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2383" h="356">
                <a:moveTo>
                  <a:pt x="2187" y="22"/>
                </a:moveTo>
                <a:lnTo>
                  <a:pt x="2176" y="22"/>
                </a:lnTo>
                <a:lnTo>
                  <a:pt x="2158" y="18"/>
                </a:lnTo>
                <a:lnTo>
                  <a:pt x="2147" y="18"/>
                </a:lnTo>
                <a:lnTo>
                  <a:pt x="2104" y="28"/>
                </a:lnTo>
                <a:lnTo>
                  <a:pt x="2073" y="34"/>
                </a:lnTo>
                <a:lnTo>
                  <a:pt x="2000" y="35"/>
                </a:lnTo>
                <a:lnTo>
                  <a:pt x="1930" y="29"/>
                </a:lnTo>
                <a:lnTo>
                  <a:pt x="1881" y="28"/>
                </a:lnTo>
                <a:lnTo>
                  <a:pt x="1819" y="26"/>
                </a:lnTo>
                <a:lnTo>
                  <a:pt x="1694" y="22"/>
                </a:lnTo>
                <a:lnTo>
                  <a:pt x="1623" y="22"/>
                </a:lnTo>
                <a:lnTo>
                  <a:pt x="1555" y="25"/>
                </a:lnTo>
                <a:lnTo>
                  <a:pt x="1478" y="26"/>
                </a:lnTo>
                <a:lnTo>
                  <a:pt x="1398" y="25"/>
                </a:lnTo>
                <a:lnTo>
                  <a:pt x="1291" y="23"/>
                </a:lnTo>
                <a:lnTo>
                  <a:pt x="1176" y="22"/>
                </a:lnTo>
                <a:lnTo>
                  <a:pt x="1052" y="18"/>
                </a:lnTo>
                <a:lnTo>
                  <a:pt x="989" y="15"/>
                </a:lnTo>
                <a:lnTo>
                  <a:pt x="829" y="7"/>
                </a:lnTo>
                <a:lnTo>
                  <a:pt x="645" y="1"/>
                </a:lnTo>
                <a:lnTo>
                  <a:pt x="570" y="0"/>
                </a:lnTo>
                <a:lnTo>
                  <a:pt x="505" y="2"/>
                </a:lnTo>
                <a:lnTo>
                  <a:pt x="434" y="8"/>
                </a:lnTo>
                <a:lnTo>
                  <a:pt x="362" y="15"/>
                </a:lnTo>
                <a:lnTo>
                  <a:pt x="288" y="24"/>
                </a:lnTo>
                <a:lnTo>
                  <a:pt x="212" y="35"/>
                </a:lnTo>
                <a:lnTo>
                  <a:pt x="147" y="45"/>
                </a:lnTo>
                <a:lnTo>
                  <a:pt x="115" y="52"/>
                </a:lnTo>
                <a:lnTo>
                  <a:pt x="87" y="62"/>
                </a:lnTo>
                <a:lnTo>
                  <a:pt x="78" y="65"/>
                </a:lnTo>
                <a:lnTo>
                  <a:pt x="63" y="74"/>
                </a:lnTo>
                <a:lnTo>
                  <a:pt x="46" y="85"/>
                </a:lnTo>
                <a:lnTo>
                  <a:pt x="37" y="93"/>
                </a:lnTo>
                <a:lnTo>
                  <a:pt x="28" y="102"/>
                </a:lnTo>
                <a:lnTo>
                  <a:pt x="15" y="111"/>
                </a:lnTo>
                <a:lnTo>
                  <a:pt x="13" y="113"/>
                </a:lnTo>
                <a:lnTo>
                  <a:pt x="11" y="115"/>
                </a:lnTo>
                <a:lnTo>
                  <a:pt x="8" y="124"/>
                </a:lnTo>
                <a:lnTo>
                  <a:pt x="6" y="128"/>
                </a:lnTo>
                <a:lnTo>
                  <a:pt x="1" y="141"/>
                </a:lnTo>
                <a:lnTo>
                  <a:pt x="0" y="144"/>
                </a:lnTo>
                <a:lnTo>
                  <a:pt x="0" y="152"/>
                </a:lnTo>
                <a:lnTo>
                  <a:pt x="0" y="167"/>
                </a:lnTo>
                <a:lnTo>
                  <a:pt x="0" y="173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6" y="201"/>
                </a:lnTo>
                <a:lnTo>
                  <a:pt x="14" y="217"/>
                </a:lnTo>
                <a:lnTo>
                  <a:pt x="19" y="225"/>
                </a:lnTo>
                <a:lnTo>
                  <a:pt x="20" y="226"/>
                </a:lnTo>
                <a:lnTo>
                  <a:pt x="22" y="227"/>
                </a:lnTo>
                <a:lnTo>
                  <a:pt x="39" y="235"/>
                </a:lnTo>
                <a:lnTo>
                  <a:pt x="48" y="242"/>
                </a:lnTo>
                <a:lnTo>
                  <a:pt x="52" y="245"/>
                </a:lnTo>
                <a:lnTo>
                  <a:pt x="60" y="250"/>
                </a:lnTo>
                <a:lnTo>
                  <a:pt x="91" y="262"/>
                </a:lnTo>
                <a:lnTo>
                  <a:pt x="115" y="272"/>
                </a:lnTo>
                <a:lnTo>
                  <a:pt x="136" y="277"/>
                </a:lnTo>
                <a:lnTo>
                  <a:pt x="140" y="278"/>
                </a:lnTo>
                <a:lnTo>
                  <a:pt x="166" y="288"/>
                </a:lnTo>
                <a:lnTo>
                  <a:pt x="211" y="298"/>
                </a:lnTo>
                <a:lnTo>
                  <a:pt x="257" y="307"/>
                </a:lnTo>
                <a:lnTo>
                  <a:pt x="306" y="317"/>
                </a:lnTo>
                <a:lnTo>
                  <a:pt x="379" y="324"/>
                </a:lnTo>
                <a:lnTo>
                  <a:pt x="461" y="334"/>
                </a:lnTo>
                <a:lnTo>
                  <a:pt x="589" y="344"/>
                </a:lnTo>
                <a:lnTo>
                  <a:pt x="650" y="347"/>
                </a:lnTo>
                <a:lnTo>
                  <a:pt x="723" y="352"/>
                </a:lnTo>
                <a:lnTo>
                  <a:pt x="796" y="355"/>
                </a:lnTo>
                <a:lnTo>
                  <a:pt x="1015" y="355"/>
                </a:lnTo>
                <a:lnTo>
                  <a:pt x="1151" y="347"/>
                </a:lnTo>
                <a:lnTo>
                  <a:pt x="1245" y="345"/>
                </a:lnTo>
                <a:lnTo>
                  <a:pt x="1308" y="342"/>
                </a:lnTo>
                <a:lnTo>
                  <a:pt x="1377" y="342"/>
                </a:lnTo>
                <a:lnTo>
                  <a:pt x="1430" y="339"/>
                </a:lnTo>
                <a:lnTo>
                  <a:pt x="1492" y="334"/>
                </a:lnTo>
                <a:lnTo>
                  <a:pt x="1573" y="327"/>
                </a:lnTo>
                <a:lnTo>
                  <a:pt x="1762" y="316"/>
                </a:lnTo>
                <a:lnTo>
                  <a:pt x="1871" y="311"/>
                </a:lnTo>
                <a:lnTo>
                  <a:pt x="1949" y="310"/>
                </a:lnTo>
                <a:lnTo>
                  <a:pt x="2016" y="309"/>
                </a:lnTo>
                <a:lnTo>
                  <a:pt x="2088" y="306"/>
                </a:lnTo>
                <a:lnTo>
                  <a:pt x="2128" y="305"/>
                </a:lnTo>
                <a:lnTo>
                  <a:pt x="2199" y="297"/>
                </a:lnTo>
                <a:lnTo>
                  <a:pt x="2208" y="296"/>
                </a:lnTo>
                <a:lnTo>
                  <a:pt x="2234" y="289"/>
                </a:lnTo>
                <a:lnTo>
                  <a:pt x="2243" y="288"/>
                </a:lnTo>
                <a:lnTo>
                  <a:pt x="2254" y="284"/>
                </a:lnTo>
                <a:lnTo>
                  <a:pt x="2260" y="283"/>
                </a:lnTo>
                <a:lnTo>
                  <a:pt x="2284" y="272"/>
                </a:lnTo>
                <a:lnTo>
                  <a:pt x="2300" y="263"/>
                </a:lnTo>
                <a:lnTo>
                  <a:pt x="2316" y="253"/>
                </a:lnTo>
                <a:lnTo>
                  <a:pt x="2331" y="243"/>
                </a:lnTo>
                <a:lnTo>
                  <a:pt x="2344" y="235"/>
                </a:lnTo>
                <a:lnTo>
                  <a:pt x="2350" y="229"/>
                </a:lnTo>
                <a:lnTo>
                  <a:pt x="2358" y="219"/>
                </a:lnTo>
                <a:lnTo>
                  <a:pt x="2368" y="210"/>
                </a:lnTo>
                <a:lnTo>
                  <a:pt x="2375" y="198"/>
                </a:lnTo>
                <a:lnTo>
                  <a:pt x="2377" y="197"/>
                </a:lnTo>
                <a:lnTo>
                  <a:pt x="2380" y="189"/>
                </a:lnTo>
                <a:lnTo>
                  <a:pt x="2381" y="185"/>
                </a:lnTo>
                <a:lnTo>
                  <a:pt x="2382" y="180"/>
                </a:lnTo>
                <a:lnTo>
                  <a:pt x="2381" y="173"/>
                </a:lnTo>
                <a:lnTo>
                  <a:pt x="2379" y="165"/>
                </a:lnTo>
                <a:lnTo>
                  <a:pt x="2377" y="158"/>
                </a:lnTo>
                <a:lnTo>
                  <a:pt x="2365" y="136"/>
                </a:lnTo>
                <a:lnTo>
                  <a:pt x="2358" y="127"/>
                </a:lnTo>
                <a:lnTo>
                  <a:pt x="2349" y="118"/>
                </a:lnTo>
                <a:lnTo>
                  <a:pt x="2339" y="110"/>
                </a:lnTo>
                <a:lnTo>
                  <a:pt x="2326" y="100"/>
                </a:lnTo>
                <a:lnTo>
                  <a:pt x="2308" y="90"/>
                </a:lnTo>
                <a:lnTo>
                  <a:pt x="2285" y="79"/>
                </a:lnTo>
                <a:lnTo>
                  <a:pt x="2253" y="68"/>
                </a:lnTo>
                <a:lnTo>
                  <a:pt x="2205" y="59"/>
                </a:lnTo>
                <a:lnTo>
                  <a:pt x="2133" y="58"/>
                </a:lnTo>
                <a:lnTo>
                  <a:pt x="2075" y="57"/>
                </a:lnTo>
                <a:lnTo>
                  <a:pt x="2001" y="46"/>
                </a:lnTo>
                <a:lnTo>
                  <a:pt x="1998" y="45"/>
                </a:lnTo>
                <a:lnTo>
                  <a:pt x="1976" y="48"/>
                </a:lnTo>
                <a:lnTo>
                  <a:pt x="1973" y="49"/>
                </a:lnTo>
                <a:lnTo>
                  <a:pt x="1966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MARTPenAnnotation7"/>
          <p:cNvSpPr/>
          <p:nvPr/>
        </p:nvSpPr>
        <p:spPr>
          <a:xfrm>
            <a:off x="2343240" y="323676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MARTPenAnnotation8"/>
          <p:cNvSpPr/>
          <p:nvPr/>
        </p:nvSpPr>
        <p:spPr>
          <a:xfrm>
            <a:off x="2336760" y="3222720"/>
            <a:ext cx="15840" cy="1440"/>
          </a:xfrm>
          <a:custGeom>
            <a:avLst/>
            <a:gdLst>
              <a:gd name="textAreaLeft" fmla="*/ 0 w 15840"/>
              <a:gd name="textAreaRight" fmla="*/ 16200 w 1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" h="1">
                <a:moveTo>
                  <a:pt x="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MARTPenAnnotation9"/>
          <p:cNvSpPr/>
          <p:nvPr/>
        </p:nvSpPr>
        <p:spPr>
          <a:xfrm>
            <a:off x="2236680" y="3236760"/>
            <a:ext cx="7920" cy="1800"/>
          </a:xfrm>
          <a:custGeom>
            <a:avLst/>
            <a:gdLst>
              <a:gd name="textAreaLeft" fmla="*/ 0 w 7920"/>
              <a:gd name="textAreaRight" fmla="*/ 8280 w 7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MARTPenAnnotation10"/>
          <p:cNvSpPr/>
          <p:nvPr/>
        </p:nvSpPr>
        <p:spPr>
          <a:xfrm>
            <a:off x="2243160" y="321480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mmon curr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ates had to agree to amend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of 13 states had to agree to any new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system or authority to borrow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sults of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dispute b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levied heavy taxes on themselves to pay for war- did not send money to nation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created own curren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levied tariffs on each others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refused to acknowledge any national law they did not 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sults of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y’s Rebellion- Massachusetts farmers rebel against foreclosures on proper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of states convinced that more rebellion was likely without a stronger centr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to the Annapolis Confer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MARTPenAnnotation0"/>
          <p:cNvSpPr/>
          <p:nvPr/>
        </p:nvSpPr>
        <p:spPr>
          <a:xfrm>
            <a:off x="671400" y="2036880"/>
            <a:ext cx="3310200" cy="156960"/>
          </a:xfrm>
          <a:custGeom>
            <a:avLst/>
            <a:gdLst>
              <a:gd name="textAreaLeft" fmla="*/ 0 w 3310200"/>
              <a:gd name="textAreaRight" fmla="*/ 3310560 w 33102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085" h="99">
                <a:moveTo>
                  <a:pt x="1949" y="72"/>
                </a:moveTo>
                <a:lnTo>
                  <a:pt x="1941" y="69"/>
                </a:lnTo>
                <a:lnTo>
                  <a:pt x="1935" y="67"/>
                </a:lnTo>
                <a:lnTo>
                  <a:pt x="1929" y="64"/>
                </a:lnTo>
                <a:lnTo>
                  <a:pt x="1916" y="62"/>
                </a:lnTo>
                <a:lnTo>
                  <a:pt x="1904" y="59"/>
                </a:lnTo>
                <a:lnTo>
                  <a:pt x="1853" y="53"/>
                </a:lnTo>
                <a:lnTo>
                  <a:pt x="1823" y="51"/>
                </a:lnTo>
                <a:lnTo>
                  <a:pt x="1756" y="49"/>
                </a:lnTo>
                <a:lnTo>
                  <a:pt x="1718" y="46"/>
                </a:lnTo>
                <a:lnTo>
                  <a:pt x="1684" y="43"/>
                </a:lnTo>
                <a:lnTo>
                  <a:pt x="1666" y="41"/>
                </a:lnTo>
                <a:lnTo>
                  <a:pt x="1644" y="38"/>
                </a:lnTo>
                <a:lnTo>
                  <a:pt x="1603" y="36"/>
                </a:lnTo>
                <a:lnTo>
                  <a:pt x="1491" y="29"/>
                </a:lnTo>
                <a:lnTo>
                  <a:pt x="1457" y="26"/>
                </a:lnTo>
                <a:lnTo>
                  <a:pt x="1435" y="23"/>
                </a:lnTo>
                <a:lnTo>
                  <a:pt x="1417" y="20"/>
                </a:lnTo>
                <a:lnTo>
                  <a:pt x="1391" y="17"/>
                </a:lnTo>
                <a:lnTo>
                  <a:pt x="1364" y="15"/>
                </a:lnTo>
                <a:lnTo>
                  <a:pt x="1330" y="12"/>
                </a:lnTo>
                <a:lnTo>
                  <a:pt x="1317" y="10"/>
                </a:lnTo>
                <a:lnTo>
                  <a:pt x="1304" y="7"/>
                </a:lnTo>
                <a:lnTo>
                  <a:pt x="1243" y="4"/>
                </a:lnTo>
                <a:lnTo>
                  <a:pt x="1221" y="2"/>
                </a:lnTo>
                <a:lnTo>
                  <a:pt x="1191" y="0"/>
                </a:lnTo>
                <a:lnTo>
                  <a:pt x="1156" y="3"/>
                </a:lnTo>
                <a:lnTo>
                  <a:pt x="1067" y="6"/>
                </a:lnTo>
                <a:lnTo>
                  <a:pt x="1042" y="8"/>
                </a:lnTo>
                <a:lnTo>
                  <a:pt x="1018" y="10"/>
                </a:lnTo>
                <a:lnTo>
                  <a:pt x="942" y="18"/>
                </a:lnTo>
                <a:lnTo>
                  <a:pt x="928" y="20"/>
                </a:lnTo>
                <a:lnTo>
                  <a:pt x="883" y="26"/>
                </a:lnTo>
                <a:lnTo>
                  <a:pt x="860" y="29"/>
                </a:lnTo>
                <a:lnTo>
                  <a:pt x="831" y="34"/>
                </a:lnTo>
                <a:lnTo>
                  <a:pt x="797" y="38"/>
                </a:lnTo>
                <a:lnTo>
                  <a:pt x="768" y="43"/>
                </a:lnTo>
                <a:lnTo>
                  <a:pt x="744" y="46"/>
                </a:lnTo>
                <a:lnTo>
                  <a:pt x="682" y="49"/>
                </a:lnTo>
                <a:lnTo>
                  <a:pt x="608" y="52"/>
                </a:lnTo>
                <a:lnTo>
                  <a:pt x="552" y="51"/>
                </a:lnTo>
                <a:lnTo>
                  <a:pt x="501" y="53"/>
                </a:lnTo>
                <a:lnTo>
                  <a:pt x="401" y="53"/>
                </a:lnTo>
                <a:lnTo>
                  <a:pt x="382" y="51"/>
                </a:lnTo>
                <a:lnTo>
                  <a:pt x="320" y="49"/>
                </a:lnTo>
                <a:lnTo>
                  <a:pt x="267" y="50"/>
                </a:lnTo>
                <a:lnTo>
                  <a:pt x="255" y="51"/>
                </a:lnTo>
                <a:lnTo>
                  <a:pt x="237" y="54"/>
                </a:lnTo>
                <a:lnTo>
                  <a:pt x="161" y="65"/>
                </a:lnTo>
                <a:lnTo>
                  <a:pt x="135" y="69"/>
                </a:lnTo>
                <a:lnTo>
                  <a:pt x="110" y="73"/>
                </a:lnTo>
                <a:lnTo>
                  <a:pt x="100" y="74"/>
                </a:lnTo>
                <a:lnTo>
                  <a:pt x="91" y="76"/>
                </a:lnTo>
                <a:lnTo>
                  <a:pt x="76" y="78"/>
                </a:lnTo>
                <a:lnTo>
                  <a:pt x="61" y="80"/>
                </a:lnTo>
                <a:lnTo>
                  <a:pt x="52" y="83"/>
                </a:lnTo>
                <a:lnTo>
                  <a:pt x="42" y="85"/>
                </a:lnTo>
                <a:lnTo>
                  <a:pt x="28" y="85"/>
                </a:lnTo>
                <a:lnTo>
                  <a:pt x="15" y="88"/>
                </a:lnTo>
                <a:lnTo>
                  <a:pt x="4" y="89"/>
                </a:lnTo>
                <a:lnTo>
                  <a:pt x="2" y="90"/>
                </a:lnTo>
                <a:lnTo>
                  <a:pt x="2" y="91"/>
                </a:lnTo>
                <a:lnTo>
                  <a:pt x="0" y="93"/>
                </a:lnTo>
                <a:lnTo>
                  <a:pt x="1" y="94"/>
                </a:lnTo>
                <a:lnTo>
                  <a:pt x="2" y="96"/>
                </a:lnTo>
                <a:lnTo>
                  <a:pt x="4" y="97"/>
                </a:lnTo>
                <a:lnTo>
                  <a:pt x="6" y="98"/>
                </a:lnTo>
                <a:lnTo>
                  <a:pt x="15" y="98"/>
                </a:lnTo>
                <a:lnTo>
                  <a:pt x="61" y="96"/>
                </a:lnTo>
                <a:lnTo>
                  <a:pt x="81" y="94"/>
                </a:lnTo>
                <a:lnTo>
                  <a:pt x="104" y="91"/>
                </a:lnTo>
                <a:lnTo>
                  <a:pt x="123" y="89"/>
                </a:lnTo>
                <a:lnTo>
                  <a:pt x="177" y="83"/>
                </a:lnTo>
                <a:lnTo>
                  <a:pt x="209" y="81"/>
                </a:lnTo>
                <a:lnTo>
                  <a:pt x="224" y="79"/>
                </a:lnTo>
                <a:lnTo>
                  <a:pt x="248" y="76"/>
                </a:lnTo>
                <a:lnTo>
                  <a:pt x="277" y="73"/>
                </a:lnTo>
                <a:lnTo>
                  <a:pt x="303" y="70"/>
                </a:lnTo>
                <a:lnTo>
                  <a:pt x="363" y="66"/>
                </a:lnTo>
                <a:lnTo>
                  <a:pt x="410" y="61"/>
                </a:lnTo>
                <a:lnTo>
                  <a:pt x="440" y="58"/>
                </a:lnTo>
                <a:lnTo>
                  <a:pt x="456" y="56"/>
                </a:lnTo>
                <a:lnTo>
                  <a:pt x="512" y="54"/>
                </a:lnTo>
                <a:lnTo>
                  <a:pt x="699" y="54"/>
                </a:lnTo>
                <a:lnTo>
                  <a:pt x="797" y="57"/>
                </a:lnTo>
                <a:lnTo>
                  <a:pt x="881" y="58"/>
                </a:lnTo>
                <a:lnTo>
                  <a:pt x="925" y="57"/>
                </a:lnTo>
                <a:lnTo>
                  <a:pt x="984" y="55"/>
                </a:lnTo>
                <a:lnTo>
                  <a:pt x="1070" y="54"/>
                </a:lnTo>
                <a:lnTo>
                  <a:pt x="1107" y="54"/>
                </a:lnTo>
                <a:lnTo>
                  <a:pt x="1261" y="58"/>
                </a:lnTo>
                <a:lnTo>
                  <a:pt x="1318" y="59"/>
                </a:lnTo>
                <a:lnTo>
                  <a:pt x="1370" y="64"/>
                </a:lnTo>
                <a:lnTo>
                  <a:pt x="1415" y="67"/>
                </a:lnTo>
                <a:lnTo>
                  <a:pt x="1444" y="70"/>
                </a:lnTo>
                <a:lnTo>
                  <a:pt x="1477" y="72"/>
                </a:lnTo>
                <a:lnTo>
                  <a:pt x="1535" y="78"/>
                </a:lnTo>
                <a:lnTo>
                  <a:pt x="1591" y="80"/>
                </a:lnTo>
                <a:lnTo>
                  <a:pt x="2012" y="80"/>
                </a:lnTo>
                <a:lnTo>
                  <a:pt x="2046" y="82"/>
                </a:lnTo>
                <a:lnTo>
                  <a:pt x="2084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MARTPenAnnotation1"/>
          <p:cNvSpPr/>
          <p:nvPr/>
        </p:nvSpPr>
        <p:spPr>
          <a:xfrm>
            <a:off x="7615080" y="2708280"/>
            <a:ext cx="714600" cy="1273320"/>
          </a:xfrm>
          <a:custGeom>
            <a:avLst/>
            <a:gdLst>
              <a:gd name="textAreaLeft" fmla="*/ 0 w 714600"/>
              <a:gd name="textAreaRight" fmla="*/ 714960 w 71460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450" h="802">
                <a:moveTo>
                  <a:pt x="54" y="0"/>
                </a:moveTo>
                <a:lnTo>
                  <a:pt x="46" y="0"/>
                </a:lnTo>
                <a:lnTo>
                  <a:pt x="48" y="2"/>
                </a:lnTo>
                <a:lnTo>
                  <a:pt x="59" y="7"/>
                </a:lnTo>
                <a:lnTo>
                  <a:pt x="73" y="13"/>
                </a:lnTo>
                <a:lnTo>
                  <a:pt x="81" y="17"/>
                </a:lnTo>
                <a:lnTo>
                  <a:pt x="93" y="25"/>
                </a:lnTo>
                <a:lnTo>
                  <a:pt x="120" y="42"/>
                </a:lnTo>
                <a:lnTo>
                  <a:pt x="130" y="50"/>
                </a:lnTo>
                <a:lnTo>
                  <a:pt x="141" y="60"/>
                </a:lnTo>
                <a:lnTo>
                  <a:pt x="156" y="74"/>
                </a:lnTo>
                <a:lnTo>
                  <a:pt x="169" y="87"/>
                </a:lnTo>
                <a:lnTo>
                  <a:pt x="182" y="97"/>
                </a:lnTo>
                <a:lnTo>
                  <a:pt x="192" y="107"/>
                </a:lnTo>
                <a:lnTo>
                  <a:pt x="206" y="123"/>
                </a:lnTo>
                <a:lnTo>
                  <a:pt x="214" y="133"/>
                </a:lnTo>
                <a:lnTo>
                  <a:pt x="221" y="141"/>
                </a:lnTo>
                <a:lnTo>
                  <a:pt x="234" y="156"/>
                </a:lnTo>
                <a:lnTo>
                  <a:pt x="246" y="171"/>
                </a:lnTo>
                <a:lnTo>
                  <a:pt x="256" y="185"/>
                </a:lnTo>
                <a:lnTo>
                  <a:pt x="265" y="198"/>
                </a:lnTo>
                <a:lnTo>
                  <a:pt x="276" y="211"/>
                </a:lnTo>
                <a:lnTo>
                  <a:pt x="287" y="223"/>
                </a:lnTo>
                <a:lnTo>
                  <a:pt x="296" y="237"/>
                </a:lnTo>
                <a:lnTo>
                  <a:pt x="310" y="257"/>
                </a:lnTo>
                <a:lnTo>
                  <a:pt x="317" y="265"/>
                </a:lnTo>
                <a:lnTo>
                  <a:pt x="333" y="285"/>
                </a:lnTo>
                <a:lnTo>
                  <a:pt x="342" y="296"/>
                </a:lnTo>
                <a:lnTo>
                  <a:pt x="350" y="307"/>
                </a:lnTo>
                <a:lnTo>
                  <a:pt x="406" y="390"/>
                </a:lnTo>
                <a:lnTo>
                  <a:pt x="419" y="408"/>
                </a:lnTo>
                <a:lnTo>
                  <a:pt x="431" y="425"/>
                </a:lnTo>
                <a:lnTo>
                  <a:pt x="443" y="443"/>
                </a:lnTo>
                <a:lnTo>
                  <a:pt x="445" y="448"/>
                </a:lnTo>
                <a:lnTo>
                  <a:pt x="448" y="452"/>
                </a:lnTo>
                <a:lnTo>
                  <a:pt x="449" y="455"/>
                </a:lnTo>
                <a:lnTo>
                  <a:pt x="449" y="457"/>
                </a:lnTo>
                <a:lnTo>
                  <a:pt x="440" y="464"/>
                </a:lnTo>
                <a:lnTo>
                  <a:pt x="427" y="473"/>
                </a:lnTo>
                <a:lnTo>
                  <a:pt x="415" y="484"/>
                </a:lnTo>
                <a:lnTo>
                  <a:pt x="401" y="494"/>
                </a:lnTo>
                <a:lnTo>
                  <a:pt x="379" y="509"/>
                </a:lnTo>
                <a:lnTo>
                  <a:pt x="355" y="526"/>
                </a:lnTo>
                <a:lnTo>
                  <a:pt x="341" y="537"/>
                </a:lnTo>
                <a:lnTo>
                  <a:pt x="322" y="554"/>
                </a:lnTo>
                <a:lnTo>
                  <a:pt x="311" y="562"/>
                </a:lnTo>
                <a:lnTo>
                  <a:pt x="299" y="571"/>
                </a:lnTo>
                <a:lnTo>
                  <a:pt x="286" y="580"/>
                </a:lnTo>
                <a:lnTo>
                  <a:pt x="270" y="593"/>
                </a:lnTo>
                <a:lnTo>
                  <a:pt x="173" y="675"/>
                </a:lnTo>
                <a:lnTo>
                  <a:pt x="158" y="686"/>
                </a:lnTo>
                <a:lnTo>
                  <a:pt x="146" y="695"/>
                </a:lnTo>
                <a:lnTo>
                  <a:pt x="137" y="701"/>
                </a:lnTo>
                <a:lnTo>
                  <a:pt x="129" y="707"/>
                </a:lnTo>
                <a:lnTo>
                  <a:pt x="108" y="725"/>
                </a:lnTo>
                <a:lnTo>
                  <a:pt x="88" y="740"/>
                </a:lnTo>
                <a:lnTo>
                  <a:pt x="73" y="751"/>
                </a:lnTo>
                <a:lnTo>
                  <a:pt x="61" y="759"/>
                </a:lnTo>
                <a:lnTo>
                  <a:pt x="48" y="767"/>
                </a:lnTo>
                <a:lnTo>
                  <a:pt x="38" y="775"/>
                </a:lnTo>
                <a:lnTo>
                  <a:pt x="26" y="782"/>
                </a:lnTo>
                <a:lnTo>
                  <a:pt x="13" y="790"/>
                </a:lnTo>
                <a:lnTo>
                  <a:pt x="6" y="795"/>
                </a:lnTo>
                <a:lnTo>
                  <a:pt x="4" y="795"/>
                </a:lnTo>
                <a:lnTo>
                  <a:pt x="3" y="796"/>
                </a:lnTo>
                <a:lnTo>
                  <a:pt x="2" y="796"/>
                </a:lnTo>
                <a:lnTo>
                  <a:pt x="1" y="797"/>
                </a:lnTo>
                <a:lnTo>
                  <a:pt x="0" y="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MARTPenAnnotation2"/>
          <p:cNvSpPr/>
          <p:nvPr/>
        </p:nvSpPr>
        <p:spPr>
          <a:xfrm>
            <a:off x="7086600" y="3971880"/>
            <a:ext cx="812880" cy="693720"/>
          </a:xfrm>
          <a:custGeom>
            <a:avLst/>
            <a:gdLst>
              <a:gd name="textAreaLeft" fmla="*/ 0 w 812880"/>
              <a:gd name="textAreaRight" fmla="*/ 813240 w 812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12" h="437">
                <a:moveTo>
                  <a:pt x="459" y="0"/>
                </a:moveTo>
                <a:lnTo>
                  <a:pt x="469" y="0"/>
                </a:lnTo>
                <a:lnTo>
                  <a:pt x="471" y="1"/>
                </a:lnTo>
                <a:lnTo>
                  <a:pt x="481" y="6"/>
                </a:lnTo>
                <a:lnTo>
                  <a:pt x="483" y="8"/>
                </a:lnTo>
                <a:lnTo>
                  <a:pt x="484" y="9"/>
                </a:lnTo>
                <a:lnTo>
                  <a:pt x="493" y="25"/>
                </a:lnTo>
                <a:lnTo>
                  <a:pt x="505" y="51"/>
                </a:lnTo>
                <a:lnTo>
                  <a:pt x="508" y="62"/>
                </a:lnTo>
                <a:lnTo>
                  <a:pt x="511" y="71"/>
                </a:lnTo>
                <a:lnTo>
                  <a:pt x="511" y="81"/>
                </a:lnTo>
                <a:lnTo>
                  <a:pt x="509" y="90"/>
                </a:lnTo>
                <a:lnTo>
                  <a:pt x="507" y="101"/>
                </a:lnTo>
                <a:lnTo>
                  <a:pt x="504" y="112"/>
                </a:lnTo>
                <a:lnTo>
                  <a:pt x="500" y="123"/>
                </a:lnTo>
                <a:lnTo>
                  <a:pt x="496" y="137"/>
                </a:lnTo>
                <a:lnTo>
                  <a:pt x="490" y="149"/>
                </a:lnTo>
                <a:lnTo>
                  <a:pt x="484" y="158"/>
                </a:lnTo>
                <a:lnTo>
                  <a:pt x="478" y="169"/>
                </a:lnTo>
                <a:lnTo>
                  <a:pt x="469" y="182"/>
                </a:lnTo>
                <a:lnTo>
                  <a:pt x="460" y="194"/>
                </a:lnTo>
                <a:lnTo>
                  <a:pt x="449" y="207"/>
                </a:lnTo>
                <a:lnTo>
                  <a:pt x="442" y="217"/>
                </a:lnTo>
                <a:lnTo>
                  <a:pt x="435" y="228"/>
                </a:lnTo>
                <a:lnTo>
                  <a:pt x="427" y="238"/>
                </a:lnTo>
                <a:lnTo>
                  <a:pt x="421" y="245"/>
                </a:lnTo>
                <a:lnTo>
                  <a:pt x="395" y="271"/>
                </a:lnTo>
                <a:lnTo>
                  <a:pt x="354" y="312"/>
                </a:lnTo>
                <a:lnTo>
                  <a:pt x="342" y="323"/>
                </a:lnTo>
                <a:lnTo>
                  <a:pt x="331" y="332"/>
                </a:lnTo>
                <a:lnTo>
                  <a:pt x="320" y="342"/>
                </a:lnTo>
                <a:lnTo>
                  <a:pt x="312" y="348"/>
                </a:lnTo>
                <a:lnTo>
                  <a:pt x="280" y="372"/>
                </a:lnTo>
                <a:lnTo>
                  <a:pt x="259" y="389"/>
                </a:lnTo>
                <a:lnTo>
                  <a:pt x="244" y="401"/>
                </a:lnTo>
                <a:lnTo>
                  <a:pt x="230" y="410"/>
                </a:lnTo>
                <a:lnTo>
                  <a:pt x="200" y="424"/>
                </a:lnTo>
                <a:lnTo>
                  <a:pt x="187" y="430"/>
                </a:lnTo>
                <a:lnTo>
                  <a:pt x="182" y="432"/>
                </a:lnTo>
                <a:lnTo>
                  <a:pt x="169" y="435"/>
                </a:lnTo>
                <a:lnTo>
                  <a:pt x="157" y="436"/>
                </a:lnTo>
                <a:lnTo>
                  <a:pt x="143" y="436"/>
                </a:lnTo>
                <a:lnTo>
                  <a:pt x="132" y="436"/>
                </a:lnTo>
                <a:lnTo>
                  <a:pt x="121" y="435"/>
                </a:lnTo>
                <a:lnTo>
                  <a:pt x="109" y="433"/>
                </a:lnTo>
                <a:lnTo>
                  <a:pt x="97" y="430"/>
                </a:lnTo>
                <a:lnTo>
                  <a:pt x="89" y="427"/>
                </a:lnTo>
                <a:lnTo>
                  <a:pt x="76" y="421"/>
                </a:lnTo>
                <a:lnTo>
                  <a:pt x="65" y="419"/>
                </a:lnTo>
                <a:lnTo>
                  <a:pt x="62" y="416"/>
                </a:lnTo>
                <a:lnTo>
                  <a:pt x="48" y="412"/>
                </a:lnTo>
                <a:lnTo>
                  <a:pt x="40" y="409"/>
                </a:lnTo>
                <a:lnTo>
                  <a:pt x="35" y="407"/>
                </a:lnTo>
                <a:lnTo>
                  <a:pt x="20" y="402"/>
                </a:lnTo>
                <a:lnTo>
                  <a:pt x="12" y="401"/>
                </a:lnTo>
                <a:lnTo>
                  <a:pt x="9" y="401"/>
                </a:lnTo>
                <a:lnTo>
                  <a:pt x="7" y="402"/>
                </a:lnTo>
                <a:lnTo>
                  <a:pt x="0" y="4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MARTPenAnnotation3"/>
          <p:cNvSpPr/>
          <p:nvPr/>
        </p:nvSpPr>
        <p:spPr>
          <a:xfrm>
            <a:off x="6969240" y="4487760"/>
            <a:ext cx="241200" cy="271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52" h="171">
                <a:moveTo>
                  <a:pt x="20" y="89"/>
                </a:moveTo>
                <a:lnTo>
                  <a:pt x="25" y="94"/>
                </a:lnTo>
                <a:lnTo>
                  <a:pt x="27" y="96"/>
                </a:lnTo>
                <a:lnTo>
                  <a:pt x="30" y="97"/>
                </a:lnTo>
                <a:lnTo>
                  <a:pt x="33" y="99"/>
                </a:lnTo>
                <a:lnTo>
                  <a:pt x="34" y="101"/>
                </a:lnTo>
                <a:lnTo>
                  <a:pt x="36" y="102"/>
                </a:lnTo>
                <a:lnTo>
                  <a:pt x="36" y="104"/>
                </a:lnTo>
                <a:lnTo>
                  <a:pt x="37" y="105"/>
                </a:lnTo>
                <a:lnTo>
                  <a:pt x="39" y="106"/>
                </a:lnTo>
                <a:lnTo>
                  <a:pt x="40" y="106"/>
                </a:lnTo>
                <a:lnTo>
                  <a:pt x="44" y="109"/>
                </a:lnTo>
                <a:lnTo>
                  <a:pt x="47" y="112"/>
                </a:lnTo>
                <a:lnTo>
                  <a:pt x="49" y="114"/>
                </a:lnTo>
                <a:lnTo>
                  <a:pt x="52" y="115"/>
                </a:lnTo>
                <a:lnTo>
                  <a:pt x="55" y="117"/>
                </a:lnTo>
                <a:lnTo>
                  <a:pt x="58" y="119"/>
                </a:lnTo>
                <a:lnTo>
                  <a:pt x="62" y="120"/>
                </a:lnTo>
                <a:lnTo>
                  <a:pt x="66" y="122"/>
                </a:lnTo>
                <a:lnTo>
                  <a:pt x="70" y="124"/>
                </a:lnTo>
                <a:lnTo>
                  <a:pt x="74" y="126"/>
                </a:lnTo>
                <a:lnTo>
                  <a:pt x="79" y="129"/>
                </a:lnTo>
                <a:lnTo>
                  <a:pt x="85" y="133"/>
                </a:lnTo>
                <a:lnTo>
                  <a:pt x="92" y="138"/>
                </a:lnTo>
                <a:lnTo>
                  <a:pt x="99" y="144"/>
                </a:lnTo>
                <a:lnTo>
                  <a:pt x="106" y="149"/>
                </a:lnTo>
                <a:lnTo>
                  <a:pt x="121" y="161"/>
                </a:lnTo>
                <a:lnTo>
                  <a:pt x="125" y="163"/>
                </a:lnTo>
                <a:lnTo>
                  <a:pt x="131" y="169"/>
                </a:lnTo>
                <a:lnTo>
                  <a:pt x="132" y="169"/>
                </a:lnTo>
                <a:lnTo>
                  <a:pt x="136" y="170"/>
                </a:lnTo>
                <a:lnTo>
                  <a:pt x="136" y="169"/>
                </a:lnTo>
                <a:lnTo>
                  <a:pt x="131" y="164"/>
                </a:lnTo>
                <a:lnTo>
                  <a:pt x="130" y="163"/>
                </a:lnTo>
                <a:lnTo>
                  <a:pt x="130" y="162"/>
                </a:lnTo>
                <a:lnTo>
                  <a:pt x="128" y="158"/>
                </a:lnTo>
                <a:lnTo>
                  <a:pt x="125" y="153"/>
                </a:lnTo>
                <a:lnTo>
                  <a:pt x="120" y="149"/>
                </a:lnTo>
                <a:lnTo>
                  <a:pt x="116" y="144"/>
                </a:lnTo>
                <a:lnTo>
                  <a:pt x="113" y="139"/>
                </a:lnTo>
                <a:lnTo>
                  <a:pt x="110" y="135"/>
                </a:lnTo>
                <a:lnTo>
                  <a:pt x="108" y="133"/>
                </a:lnTo>
                <a:lnTo>
                  <a:pt x="104" y="130"/>
                </a:lnTo>
                <a:lnTo>
                  <a:pt x="102" y="128"/>
                </a:lnTo>
                <a:lnTo>
                  <a:pt x="97" y="126"/>
                </a:lnTo>
                <a:lnTo>
                  <a:pt x="96" y="126"/>
                </a:lnTo>
                <a:lnTo>
                  <a:pt x="94" y="125"/>
                </a:lnTo>
                <a:lnTo>
                  <a:pt x="91" y="121"/>
                </a:lnTo>
                <a:lnTo>
                  <a:pt x="88" y="117"/>
                </a:lnTo>
                <a:lnTo>
                  <a:pt x="86" y="115"/>
                </a:lnTo>
                <a:lnTo>
                  <a:pt x="82" y="112"/>
                </a:lnTo>
                <a:lnTo>
                  <a:pt x="79" y="110"/>
                </a:lnTo>
                <a:lnTo>
                  <a:pt x="76" y="108"/>
                </a:lnTo>
                <a:lnTo>
                  <a:pt x="74" y="106"/>
                </a:lnTo>
                <a:lnTo>
                  <a:pt x="71" y="103"/>
                </a:lnTo>
                <a:lnTo>
                  <a:pt x="65" y="98"/>
                </a:lnTo>
                <a:lnTo>
                  <a:pt x="62" y="95"/>
                </a:lnTo>
                <a:lnTo>
                  <a:pt x="59" y="93"/>
                </a:lnTo>
                <a:lnTo>
                  <a:pt x="56" y="92"/>
                </a:lnTo>
                <a:lnTo>
                  <a:pt x="53" y="91"/>
                </a:lnTo>
                <a:lnTo>
                  <a:pt x="48" y="88"/>
                </a:lnTo>
                <a:lnTo>
                  <a:pt x="45" y="86"/>
                </a:lnTo>
                <a:lnTo>
                  <a:pt x="41" y="83"/>
                </a:lnTo>
                <a:lnTo>
                  <a:pt x="38" y="81"/>
                </a:lnTo>
                <a:lnTo>
                  <a:pt x="34" y="80"/>
                </a:lnTo>
                <a:lnTo>
                  <a:pt x="29" y="78"/>
                </a:lnTo>
                <a:lnTo>
                  <a:pt x="26" y="77"/>
                </a:lnTo>
                <a:lnTo>
                  <a:pt x="23" y="75"/>
                </a:lnTo>
                <a:lnTo>
                  <a:pt x="18" y="73"/>
                </a:lnTo>
                <a:lnTo>
                  <a:pt x="15" y="72"/>
                </a:lnTo>
                <a:lnTo>
                  <a:pt x="11" y="71"/>
                </a:lnTo>
                <a:lnTo>
                  <a:pt x="10" y="71"/>
                </a:lnTo>
                <a:lnTo>
                  <a:pt x="8" y="71"/>
                </a:lnTo>
                <a:lnTo>
                  <a:pt x="4" y="68"/>
                </a:lnTo>
                <a:lnTo>
                  <a:pt x="1" y="67"/>
                </a:lnTo>
                <a:lnTo>
                  <a:pt x="0" y="66"/>
                </a:lnTo>
                <a:lnTo>
                  <a:pt x="0" y="65"/>
                </a:lnTo>
                <a:lnTo>
                  <a:pt x="2" y="63"/>
                </a:lnTo>
                <a:lnTo>
                  <a:pt x="6" y="61"/>
                </a:lnTo>
                <a:lnTo>
                  <a:pt x="9" y="60"/>
                </a:lnTo>
                <a:lnTo>
                  <a:pt x="12" y="59"/>
                </a:lnTo>
                <a:lnTo>
                  <a:pt x="16" y="56"/>
                </a:lnTo>
                <a:lnTo>
                  <a:pt x="20" y="53"/>
                </a:lnTo>
                <a:lnTo>
                  <a:pt x="21" y="51"/>
                </a:lnTo>
                <a:lnTo>
                  <a:pt x="24" y="49"/>
                </a:lnTo>
                <a:lnTo>
                  <a:pt x="28" y="47"/>
                </a:lnTo>
                <a:lnTo>
                  <a:pt x="33" y="45"/>
                </a:lnTo>
                <a:lnTo>
                  <a:pt x="45" y="38"/>
                </a:lnTo>
                <a:lnTo>
                  <a:pt x="57" y="31"/>
                </a:lnTo>
                <a:lnTo>
                  <a:pt x="66" y="26"/>
                </a:lnTo>
                <a:lnTo>
                  <a:pt x="76" y="20"/>
                </a:lnTo>
                <a:lnTo>
                  <a:pt x="80" y="19"/>
                </a:lnTo>
                <a:lnTo>
                  <a:pt x="84" y="17"/>
                </a:lnTo>
                <a:lnTo>
                  <a:pt x="88" y="16"/>
                </a:lnTo>
                <a:lnTo>
                  <a:pt x="116" y="6"/>
                </a:lnTo>
                <a:lnTo>
                  <a:pt x="123" y="4"/>
                </a:lnTo>
                <a:lnTo>
                  <a:pt x="129" y="2"/>
                </a:lnTo>
                <a:lnTo>
                  <a:pt x="133" y="1"/>
                </a:lnTo>
                <a:lnTo>
                  <a:pt x="136" y="0"/>
                </a:lnTo>
                <a:lnTo>
                  <a:pt x="139" y="0"/>
                </a:lnTo>
                <a:lnTo>
                  <a:pt x="141" y="0"/>
                </a:lnTo>
                <a:lnTo>
                  <a:pt x="143" y="0"/>
                </a:lnTo>
                <a:lnTo>
                  <a:pt x="145" y="1"/>
                </a:lnTo>
                <a:lnTo>
                  <a:pt x="151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2:54:02Z</dcterms:created>
  <dc:creator>tONI</dc:creator>
  <dc:description/>
  <dc:language>en-US</dc:language>
  <cp:lastModifiedBy>Eric Rossi</cp:lastModifiedBy>
  <dcterms:modified xsi:type="dcterms:W3CDTF">2010-06-03T22:10:24Z</dcterms:modified>
  <cp:revision>6</cp:revision>
  <dc:subject/>
  <dc:title>Articles of Confederation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plimentary Subject1">
    <vt:lpwstr/>
  </property>
  <property fmtid="{D5CDD505-2E9C-101B-9397-08002B2CF9AE}" pid="3" name="Complimentary Subject2">
    <vt:lpwstr/>
  </property>
  <property fmtid="{D5CDD505-2E9C-101B-9397-08002B2CF9AE}" pid="4" name="ContentType">
    <vt:lpwstr>GSO Framework Document</vt:lpwstr>
  </property>
  <property fmtid="{D5CDD505-2E9C-101B-9397-08002B2CF9AE}" pid="5" name="Course_Child">
    <vt:lpwstr>American Government/Civics</vt:lpwstr>
  </property>
  <property fmtid="{D5CDD505-2E9C-101B-9397-08002B2CF9AE}" pid="6" name="Exclude From Search">
    <vt:lpwstr>0</vt:lpwstr>
  </property>
  <property fmtid="{D5CDD505-2E9C-101B-9397-08002B2CF9AE}" pid="7" name="GPS_Grade">
    <vt:lpwstr>;#9;#10;#11;#12;#</vt:lpwstr>
  </property>
  <property fmtid="{D5CDD505-2E9C-101B-9397-08002B2CF9AE}" pid="8" name="Level_Child">
    <vt:lpwstr/>
  </property>
  <property fmtid="{D5CDD505-2E9C-101B-9397-08002B2CF9AE}" pid="9" name="SortOrder">
    <vt:lpwstr>115.000000000000</vt:lpwstr>
  </property>
  <property fmtid="{D5CDD505-2E9C-101B-9397-08002B2CF9AE}" pid="10" name="Subject_Parent">
    <vt:lpwstr>Social Studies</vt:lpwstr>
  </property>
  <property fmtid="{D5CDD505-2E9C-101B-9397-08002B2CF9AE}" pid="11" name="TabIndent">
    <vt:lpwstr>3.00000000000000</vt:lpwstr>
  </property>
  <property fmtid="{D5CDD505-2E9C-101B-9397-08002B2CF9AE}" pid="12" name="Text Placeholder">
    <vt:lpwstr>0</vt:lpwstr>
  </property>
</Properties>
</file>